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35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14.png" ContentType="image/png"/>
  <Override PartName="/ppt/media/image10.jpeg" ContentType="image/jpeg"/>
  <Override PartName="/ppt/media/image36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A1C-3F66-44EE-A690-F19A459D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016-E8DA-4E38-89AD-214AE92D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E0A-FBCD-4703-B776-B5E487CE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D31-5E9E-4BC4-8346-E4080E6F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FA0-CF21-4D36-A697-B0716E00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E44-5AAD-462B-903C-923AB354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4FB-E6FE-460D-B3DF-EF1D555E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5A8-66DB-4010-BAE7-6674880C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5B1-C989-4A9B-85BB-3FD93112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EDC-EBB1-4DD3-95B9-B76EA056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1C6-FEC8-4B1E-A349-6EDA4075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D9A-E2A1-4A05-B509-3B7CB218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0EAF-0356-4239-991B-73C33D432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ulturegrams.com/" TargetMode="External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/imgres?imgurl=http://iheartya.files.wordpress.com/2009/02/experience-alaska.jpg&amp;imgrefurl=http://iheartya.wordpress.com/2009/02/&amp;usg=__3Ka1z5dQu4w8lBlCv8Ykus48WNk=&amp;h=494&amp;w=741&amp;sz=63&amp;hl=en&amp;start=3&amp;tbnid=Nwg0qesQHUL08M:&amp;tbnh=94&amp;tbnw=141&amp;prev=/images%3Fq%3Dalaska%26gbv%3D2%26hl%3Den%26safe%3Dactive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000000">
            <a:off x="2057400" y="68580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latin typeface="Script MT Bold"/>
              </a:rPr>
              <a:t>The Western 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latin typeface="Script MT Bold"/>
              <a:ea typeface="Script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80008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3352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Emily Gant, Nandini Chakrabarty and Megan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5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4924440"/>
            <a:ext cx="2590920" cy="1933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505320" y="609480"/>
            <a:ext cx="220968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Elephant"/>
              </a:rPr>
              <a:t>Uta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Elephant"/>
              <a:ea typeface="Elephant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304920"/>
            <a:ext cx="22860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Salt Lak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pulation-2,645,3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ig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In Utah most job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in service for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staurants an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computer sup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90920" y="380880"/>
            <a:ext cx="4190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cc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doni MT Black"/>
              </a:rPr>
              <a:t>Washington</a:t>
            </a:r>
            <a:endParaRPr b="0" lang="en-US" sz="1800" spc="1" strike="noStrike">
              <a:ln w="31680">
                <a:solidFill>
                  <a:srgbClr val="ffcc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doni MT Black"/>
              <a:ea typeface="Bodoni MT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827600"/>
            <a:ext cx="3124080" cy="2030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172200" y="462924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1066680"/>
            <a:ext cx="228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Oly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opulation-6,468,4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marine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1371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echnology  indust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re an important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in Washington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666880" y="457200"/>
            <a:ext cx="4038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DFKai-SB"/>
              </a:rPr>
              <a:t>Wyoming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DFKai-SB"/>
              <a:ea typeface="DFKai-SB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5880" y="4732200"/>
            <a:ext cx="3048120" cy="212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51604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77120" y="1523880"/>
            <a:ext cx="2514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Che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-493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mate-There are three major thing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elp Wyoming’s economy: mining, agriculture, and tour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00200" y="45720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Heavy"/>
              </a:rPr>
              <a:t>Resourc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Franklin Gothic Heavy"/>
              <a:ea typeface="Franklin Gothic Heavy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2209680"/>
            <a:ext cx="5486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ulturegram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rld Geograp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: McDougal Litt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429732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733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y Mou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943600" y="429732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43600" y="3657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 Mou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19520" y="228600"/>
            <a:ext cx="3504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Eras Light ITC"/>
              </a:rPr>
              <a:t>Alask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Eras Light ITC"/>
              <a:ea typeface="Eras Light ITC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1371600"/>
            <a:ext cx="2895840" cy="19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16765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5892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267080"/>
            <a:ext cx="2743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June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pulation-683,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mate-tundra and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b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44956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volcanoes are fou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ere. Earthquakes occu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 Oil and gas help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laska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0" y="0"/>
            <a:ext cx="426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Californ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72200" y="304920"/>
            <a:ext cx="207180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5373720"/>
            <a:ext cx="1600200" cy="148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571500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-Sac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-36,553,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-Mediterranean and 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715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gold, and grapes are a main part of California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66680" y="22860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Eras Light ITC"/>
              </a:rPr>
              <a:t>Colorado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Eras Light ITC"/>
              <a:ea typeface="Eras Light ITC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3276720" cy="259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869080" y="4191120"/>
            <a:ext cx="3274920" cy="266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5720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Den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-4,861,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57150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conomy depends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ydroelectric power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gri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724280" y="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25751" dir="18900000" blurRad="0" rotWithShape="0">
                    <a:srgbClr val="ff3300"/>
                  </a:outerShdw>
                </a:effectLst>
                <a:latin typeface="StoneSerif SBIN SmBd v.1"/>
              </a:rPr>
              <a:t>Hawaii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25751" dir="18900000" blurRad="0" rotWithShape="0">
                  <a:srgbClr val="ff3300"/>
                </a:outerShdw>
              </a:effectLst>
              <a:latin typeface="StoneSerif SBIN SmBd v.1"/>
              <a:ea typeface="StoneSerif SBIN SmBd v.1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2990880" cy="204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7600" y="3886200"/>
            <a:ext cx="5486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Honol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-1,283,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mate-Tropical Rain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ir economy mainly relies on tourism and fr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43200" y="22860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FKai-SB"/>
              </a:rPr>
              <a:t>Idaho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FKai-SB"/>
              <a:ea typeface="DFKai-SB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5880" y="2076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0" y="46483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tatoes and gems are an important part of Idaho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64832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B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pulation-1,499,4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943600" y="4627440"/>
            <a:ext cx="3200400" cy="223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19810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H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pulation-957,8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 and hig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209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land is valuable for farming and ran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657600" y="609480"/>
            <a:ext cx="4876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cc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Lucida Sans"/>
              </a:rPr>
              <a:t>Nevada</a:t>
            </a:r>
            <a:endParaRPr b="0" lang="en-US" sz="1800" spc="1" strike="noStrike">
              <a:ln w="31680">
                <a:solidFill>
                  <a:srgbClr val="ffcc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Lucida Sans"/>
              <a:ea typeface="Lucida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657600" y="3962520"/>
            <a:ext cx="2762280" cy="289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9880" y="1981080"/>
            <a:ext cx="51818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Carson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opulation-2,565,3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 and hig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vada is one of the leading producers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72200" y="1981080"/>
            <a:ext cx="29718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pulation-3,747,45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marine and 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regon is a leading producer of lumber and paper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03:37Z</dcterms:created>
  <dc:creator>nandinichakrabarty</dc:creator>
  <dc:description/>
  <dc:language>en-US</dc:language>
  <cp:lastModifiedBy>Amit</cp:lastModifiedBy>
  <dcterms:modified xsi:type="dcterms:W3CDTF">2009-04-15T02:41:03Z</dcterms:modified>
  <cp:revision>8</cp:revision>
  <dc:subject/>
  <dc:title>Slide 1</dc:title>
</cp:coreProperties>
</file>